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5AC1-0F3D-4D9E-A3DD-79DF865D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3B2-CE50-488B-B041-53240107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25E-2BAC-4AE3-9169-9EFF6FFE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9F5B-F3B2-4E3A-A2C3-25E52736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739-C43E-4710-8E85-87B65ABA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999D-C458-43F2-A9CD-9A1D6839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F62A-1A10-483C-B953-426307F8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B04F-5129-413D-98A1-B815D170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C7E-E153-4162-827B-2CB1FDBD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796E-2CF6-4C18-8EFF-70983673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C35-1928-4142-BCE0-29A1D2B0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FF61-9822-4882-A2C4-66D65789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BFEC-9133-42D8-AA11-74F8CFDE5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3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133720" y="0"/>
            <a:ext cx="5181480" cy="685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2133720" y="587520"/>
            <a:ext cx="5181480" cy="2841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4"/>
          <a:stretch/>
        </p:blipFill>
        <p:spPr>
          <a:xfrm>
            <a:off x="2133720" y="3276720"/>
            <a:ext cx="5446440" cy="365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0" y="0"/>
            <a:ext cx="2133720" cy="2422440"/>
          </a:xfrm>
          <a:prstGeom prst="rect">
            <a:avLst/>
          </a:prstGeom>
          <a:ln w="0">
            <a:noFill/>
          </a:ln>
        </p:spPr>
      </p:pic>
      <p:pic>
        <p:nvPicPr>
          <p:cNvPr id="46" name="~PP620.WAV" descr=""/>
          <p:cNvPicPr/>
          <p:nvPr/>
        </p:nvPicPr>
        <p:blipFill>
          <a:blip r:embed="rId6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4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523880" y="685800"/>
            <a:ext cx="6413760" cy="6019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2666880" y="152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Inhaler Tip 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~PP2011.WAV" descr=""/>
          <p:cNvPicPr/>
          <p:nvPr/>
        </p:nvPicPr>
        <p:blipFill>
          <a:blip r:embed="rId4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3:49:20Z</dcterms:created>
  <dc:creator>Jamie</dc:creator>
  <dc:description/>
  <dc:language>en-US</dc:language>
  <cp:lastModifiedBy>Jamie</cp:lastModifiedBy>
  <dcterms:modified xsi:type="dcterms:W3CDTF">2007-11-28T03:50:47Z</dcterms:modified>
  <cp:revision>1</cp:revision>
  <dc:subject/>
  <dc:title>Slide 1</dc:title>
</cp:coreProperties>
</file>